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51F7-1B15-47B1-A801-CD563574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6710-FFAF-48BB-9AA4-525F1167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8579-2BB1-4CA9-AEC4-582A49BC3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1F61-DE5C-4630-B1FF-3344846F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EAD-40E1-4244-B217-790AF20B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C3D-581C-4FC6-993D-CFC3F2D8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345-24F8-49C1-8C1D-5D82C130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2B1-9964-49C8-BF5E-2663C873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1BF-7BE3-47F5-AF48-80E3F897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ABD-DB76-447D-8C07-A909791A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288-7495-40B1-AD31-730F93C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6E5-CDC3-43EE-9F97-B944EF32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86F-309D-49B7-B2DE-3E2CEF7C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F3F-9798-46A2-91DB-986FBC3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5FE-E3BF-48F0-90CF-2923525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ED3-208B-41BE-B0EE-602329BE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711-76FA-430E-8E2B-0AB40816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ing ready to sign the D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2680" cy="531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209680" y="1905120"/>
            <a:ext cx="3124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/>
          <p:cNvPicPr/>
          <p:nvPr/>
        </p:nvPicPr>
        <p:blipFill>
          <a:blip r:embed="rId6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/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057400" y="54100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2133720" y="57913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7"/>
          <p:cNvSpPr/>
          <p:nvPr/>
        </p:nvSpPr>
        <p:spPr>
          <a:xfrm>
            <a:off x="152280" y="457200"/>
            <a:ext cx="60984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"/>
          <p:cNvSpPr/>
          <p:nvPr/>
        </p:nvSpPr>
        <p:spPr>
          <a:xfrm>
            <a:off x="914400" y="1905120"/>
            <a:ext cx="9144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2286000" y="1905120"/>
            <a:ext cx="9144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733920" y="1905120"/>
            <a:ext cx="9144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5029200" y="1905120"/>
            <a:ext cx="16002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hmhendri</cp:lastModifiedBy>
  <dcterms:modified xsi:type="dcterms:W3CDTF">2012-10-23T01:40:04Z</dcterms:modified>
  <cp:revision>19</cp:revision>
  <dc:subject/>
  <dc:title>Profile</dc:title>
</cp:coreProperties>
</file>